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0F2-0E05-4682-B2CD-AF35DA1E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089-CFB3-4443-8101-82986D7B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0D49A-E531-4EB3-84CE-A1FD48EB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AA943-CCA3-473F-9090-ABF2A546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C9652-7180-403E-AD62-9E4C13E9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78A1D-EA31-4024-ACAE-F10C42D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78669-1EE9-4182-BEF2-443FFFF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D4178-19CF-434B-863C-DF5FBBE4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26AFF-AE89-4434-8ADF-D7C696B9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72C65-46FA-4D60-9181-5C2F2D37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53621-F1F4-47E1-BA5E-601BBE2F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884C3-0C4B-46D3-9890-4ED07A33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249-57D1-419B-9E35-C42FCB0C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F06AE-3D81-4572-834F-2A562A07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D6344-CAF6-4936-881C-847DF1A1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7EA3F-9188-4F39-849D-D5A2F5B8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68D3D-C42E-4F3A-9066-3F2D2C14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DB8A7-EE66-4407-99B1-10CF39B3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2CEE9-D5B4-4E71-8C58-37E5E84F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234B3-ADE9-45E5-ADEF-D88FF5A0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2EAA8-ABD3-4B66-B946-5F805BE6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6F346-2D3B-4AE2-803F-67AFE1C6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AA40C-6E51-46ED-B97C-FDD99D19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027-C21C-4341-B3CB-19A07D68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F8597-8BA4-4870-91AD-9B2FF1C3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F9A95-9F16-408D-8E32-0F0041AA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A7E94-432C-47F9-B325-D7B308D0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77A8B-75CB-4E33-84AC-A8ACA1D3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330F4-8FD2-4E3B-944B-7D3CE440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87D59-2660-46D2-B1AF-C619AFC8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3DB9D-FB38-4BBB-8D5B-C109EFE9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D6E2A-3642-4060-A88F-590B101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A918A-2637-4165-A6B9-4119C6DD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5C71B-0D94-4F94-885C-557EA8D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1E6B-8FD0-4000-A559-C33F930C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38994-BE8C-4C15-8016-BAC385C4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48042-729A-409E-B76F-4127DCB8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A7865-1E1E-46A9-81F8-C9248349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BA499-174E-48A7-91A6-8BB13FE2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5C1BD-76CD-42CD-AF3B-10C164F1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242D8-BAFE-47C8-AF6E-3A67918F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B7F9A-4A8C-48F6-AC35-C6B49F88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D99C4-AEF5-4CF5-B6B7-B0F6A26C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63374-CF2C-454B-B223-B9CF1CFA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DB65E-D660-4480-8C7E-DE91C5E1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DC9B-B79F-47BC-87DD-61FB4344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18709-7033-4EA7-ABF2-AEF59B2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4870E-357C-4C59-B13E-5F93163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0D311-6EE7-4736-A979-3EA84B4C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502FD-C646-483D-94CE-44335616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31FBC-7124-4C21-9FED-E26124F3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D7B71-1E5E-46CE-9506-D2969F45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7EF63-C078-40EE-AC1D-70C18725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2BCCE-BDF2-4F20-B349-C9CF95CF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58364-E9AE-4762-98F6-D5CB017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0A2A6-1A0D-4213-8335-1060141E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51F8-0F9C-498B-A87F-D7ACAE51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1A50F-39B2-4F3A-B0D9-D710F607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59A12-B4B6-4631-9F8C-4E9A263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7AC7A-1C0D-46FD-9778-FED0A1D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5C032-EE59-4205-900D-894B7BC9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00FA0-E2E9-464C-A14B-5256C594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4B0DF-E509-4C8F-BACF-EFC7CD3D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4B037-32D6-4F7D-AF14-C9986A43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D5096-1D5A-439A-B26A-42A2A0C1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CE409-98C3-4451-84BE-82CF63A5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1EE36-FD07-4E5C-B30A-C6492C0B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6FDF-DF27-4F71-98DC-088CC4A4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4CC8E-EC4F-4041-82C4-E1178BC5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82070-81F6-42FB-8118-7DE4BD09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6211D-042E-402B-954C-8C1F2CE4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8AD10-126C-48F9-9442-519C0344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C9FDE-403B-4AE5-B4D0-CEF65096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4B00F-E245-4E82-8E3E-C05745F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0CD82-7079-46F9-B553-752CACC9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7E768-092A-4268-8637-7AAFCE40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D769C-265D-4978-B088-6E950975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41DCF-14A1-40E0-8D70-1538649B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51EB-AEC3-4759-9191-18972207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EAD28-2E91-454A-8E4D-4C620D5A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C505E-2FAC-4E8D-B029-F645AE6F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9DF86-272B-44E6-9C5A-DCE7F863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27E17-609E-4E94-9198-A2AE85B9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BA67F-579A-45D8-8236-17FAE362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F2387-9722-4F44-88FF-75CE5F7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76EA4-3A84-48E0-929C-4795A3A3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6F557-0977-42AE-B6CC-6A031228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D96FD-F9CF-49A3-B9C0-EF392DB6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6E1D1-01E7-4720-A3BB-6B5254F9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3FE2-E35A-4CD8-98B5-ECBBD5C5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62163-30B4-4BAE-95AA-33BE4665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132E1-D049-490B-BC69-30D869A4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94CDF-9792-4E4C-8B01-D35F7260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EBDA1-4BFF-41F0-ADB7-CA238F61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553B9-EE37-4B0F-B628-078F12A8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30DAD-F1BF-4573-B58E-468E7F6D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84ABE-2717-492C-8C96-D065E084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1CCDC-C3AC-43CA-9052-4A15431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81BFE-57A5-40C1-B005-299B005E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7E107-C589-4738-819D-90A57C2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ABA3-6002-4942-9D0B-8A70C55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38639-B5F5-4889-A1DE-A06E9E3D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4B3A8-7503-4740-86D9-9B6A9614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B8BE0-0A27-42ED-988D-0CC909C9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DEBFB1-BCF2-4A1D-884D-5AEF5826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87D85-B4C8-4898-B59E-ABD8DA79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5CCFF-E78C-4F4D-B7F5-00543CD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BE168-D46E-42FD-87E2-164C90CF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07BD2-FC71-4D6A-94DA-005426C8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CECC7-2EB9-4D78-AB24-81AC5F50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28F8D-B23B-4A78-8426-3D29B399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5CE-78D1-40B1-9055-947B28F8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6CD8-8CFC-4DEA-BBE5-775C699F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A6A17-A0BB-4E7D-AB71-8A051AB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AD7FF-0642-494D-837D-078A031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5C9A1-7AEB-4041-A57A-FC7D2DD4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46001-037B-4A15-915D-7A5FEA34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FC3AB-E4EB-4507-ADB3-54412A15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10A7AC-822D-43B8-845D-06212C63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AF003-B3C5-47F4-BF20-82729CC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1B9A8-DAA6-4ABE-A4B4-5B5941C7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3C25F-00F4-43E5-92F8-1569EF4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BC091-AA57-49A4-9CDF-6CD1F2B7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7F8-3F8B-4047-BB7E-D57EBDE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A2179-43C2-4223-BE1F-A5AB3CE6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75C61-CAEB-4CCB-BBE2-A8FA72A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6570D-CAC1-4CEE-BAA3-FB8AA233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A2690-DDCD-4E2D-B348-17D6062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8BAD9-EC68-4B22-B752-FF947E0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42A18-1BCC-423F-8DF0-D9EABF9F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11A12-D639-4E29-B28B-77E85B4B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04C3C2-D359-4557-9FB7-744A867C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4072A-DCD6-4524-95A0-94C89906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55529-9CD5-44DD-BCD1-F5F10ECB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F3C0-147B-41E1-9D80-5BF9DDEB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DDCED-05ED-4A3C-B388-2C22C920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20876-8B6C-44D1-AE92-50CC09B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9FF73-38F3-4C18-B5FD-CAEC6C29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22442-0923-4A14-A90F-E8F17642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E1FA1A-6482-4925-9951-B3186B20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0E576-F7A6-4E1E-AADE-BCCAD9F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91FFE-DE55-4123-9DDB-5DFCAE35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FCFF4-CDD0-48AA-A83C-1F6E18DA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B8F1B-C4A9-4246-8B3A-00D84768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133A3-9E99-40BC-B00C-CCEABF6B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4C28-4B7C-4CB1-8122-EFCF0BE0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3F498-4D38-4297-B311-DE2BB1EF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F27C2-CDC4-4A97-BCFA-8EB3CCC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95080-06F2-4951-9E77-25FC51CD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E64BC-5776-4AF1-9C50-F736537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EC38C-7A54-4452-AE13-14CF94C0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5FA276-0381-4344-9C68-273307B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E0C03-8435-4B36-899E-A3D2750B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245DB-20E1-4C57-8BD3-6A70601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428D4-935F-44F7-B0CE-84BCD4C7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543BA-8CCA-4A5F-9A10-D7D8C696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6ABD-D642-4114-8B53-AF77D789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235B4-CE0A-449E-ADE8-19776A41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3CA01-354D-404B-9CF2-E4D660BF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9EB2B-B134-49E6-B919-178BC99F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AA7EC-A820-4393-86E3-6E313B4C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1DAF7-F27C-4FEE-9ABA-6654926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367B3-E088-483C-A2A3-B97A651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DDD31-F760-4301-BBFF-1DE4D313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763A4-EA0F-4D26-A71A-8E8D8C8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9DB928-9EAE-4936-BF53-D2E2E15A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AB4DC-A3AA-4280-B8DC-6349F49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0CEB-4DB0-4785-8D2F-4520EF69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F491BE-8AB3-43BC-BADF-90002DBA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93591-0E24-4171-82DE-DFAFFBCA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B1C76-DC18-4330-B204-989C6082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C664-8011-4F1D-AC2B-09143C1C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8C85-94A8-42CC-84C4-2A87F1C4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73E3-5712-4C91-B3F9-98AE42C5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0F93-3E02-46A8-82C6-3FEE6ABE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368-3DC3-4210-8B09-2311CA3F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37BD-CDE5-43F1-B4FF-EA2B70EE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8ECE-92C4-441C-89B9-9F9D9C29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67B0-203F-4BE4-9DB1-A176F40D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3B03-ABAE-4130-B452-B3938AAF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2C02C-31C7-40E0-AC59-CDBC1489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41151-CD6D-435F-B6AD-017F79B0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877E-5F4D-4C1A-99AF-21F4D275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0F02-37D5-4733-91DF-1284807C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A52F-300F-42B4-916D-0B05D5F8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9C0BD-D73B-4A03-9E05-CCD54925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2A6-8DF1-4DC2-9C8E-5E19D468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72BAC-5AF8-4EA4-AFE1-EA28119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88A84-F4A1-4161-A21D-C639E007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B9F7-71C2-493A-8338-43B9F051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DCB2-304E-4635-8807-9DA1D517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95C4-9F5F-4673-B16D-96DAC254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64887-47A5-48A8-8712-5EF5F557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CEA0-2649-4232-9FD9-1555DCF1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D5467-6D99-4A46-BC96-9DFB3840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E2C7-FDBF-40F0-A8E4-FC2BB407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E021-4DBC-41CC-92FD-39926DD0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4D9-6CFC-417D-8C72-AD70EA9C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2598-36AC-46AE-B16A-CE3455CC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0B1BF-566D-47F5-9B83-16191F7F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921CB-FCFF-4209-B876-5293FECE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2480-F730-4C76-800D-33BF818B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2E1E-72C8-4F3D-BDB4-4EE41A6C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5B255-05A8-42EE-A2F3-2C170BB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5CF09-FA97-4238-AEDC-F1FE5255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8A0CA-5488-490B-9D6A-0C370C0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9FFC3-F5AA-4650-BF2E-A9100AF9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C47F-4D81-484C-8085-5BDF5112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B8B-0583-4EAE-AE6D-2977F5B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D8BC0-A4EF-46AA-B248-D93E7B19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2D00-CB19-4CD8-87A8-3466CB2F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DBEC2-86AB-4E49-912B-E9F3DAF5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E44B-BE67-4233-840B-AEC12D25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608D3-1E68-4F4B-888E-3A6E61C1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048FF-0502-4EA1-A8AE-DF44A02F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A525-2AAF-4D72-BE24-AE263269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E71C7-EA42-4B81-99DE-595A7D4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0FCA-B7BA-4032-B0A0-063A26A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F3D0A-57DC-4A4C-ABB5-622492BB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9C2-C2FF-4CE7-A486-47C23C0C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A90B-9DBE-4F15-88C3-FA589D8C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9F188-D654-4EAC-A898-F105B1A2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569DC-015E-4122-B938-2B3AB808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4EFEB-F409-4672-ADD8-96AA2408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39781-D285-4264-8497-8925097A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9EFE2-7B6E-4DB3-89F5-B4FA4AD9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F1996-D62A-4F43-8898-A26992D9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55B4-FB35-4A26-AF3C-07594F58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C057D-466F-4101-A183-81568190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C7687-A93A-494C-BAC7-525DA673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B29-4683-4E80-AC85-0D9B183F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D6799-70C1-4BB1-8178-381B795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C62A4-1C26-4443-8475-2BF4D6E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1B1BC-EB3D-4D14-94A6-35D65EDE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7FC7B-96E8-4683-9404-31BA5BDA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5FB54-9975-4962-AF72-A44D2A87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82CD7-26CF-41E0-AB20-DD49C0FB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2C46C-BB21-4BCF-9A30-3931AF43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A8EB8-F703-4205-BBC1-E07CE02F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9D482-B62A-4785-BC07-FF092C08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290FA-EBD8-457D-B42A-09D16B2A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F15-915C-48BD-A747-DA74BE4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C1525-325C-47B5-8887-A5D45493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8A2DF-0DBE-4B5B-AE2A-42AB245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31649-32E0-499C-8CC8-CAF4DF39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4203F-36F8-4720-B998-1C90C45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09B2B-1038-44B2-B208-33D5F20A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93BF3-E765-4334-812D-F1395ACD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C693F-7924-43C1-B877-6A4FADC4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7DE46-4855-4D9B-BF17-983D006B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AD954-5D55-43C6-8470-FDFCF394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48671-D287-4FC3-8E62-CEA20202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69E4-2B82-4E49-89A5-158FFA3815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7937-196A-42F1-8D57-05F0645A7A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170E-9E7A-4609-B22C-DE82F5DE9E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39F7-7653-4442-8260-F6AAB50C0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C670-BDE1-4539-AFE7-5E2BA68EB0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DA1A-3B61-46A9-8CD8-2ECCE5835A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882F-E113-42EA-9F75-C1EFC6BAC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64A2-D947-42BC-A443-72B149F881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257E-904A-4F15-80CC-24E65885D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4526-F55F-44EC-A286-7924D2EE9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2C83-2CBD-4200-B15A-848B18BB9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0057-935D-4946-911F-49324D6483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D987-DFDB-498D-9650-C73B05BDBA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00D8-DA9A-4740-B5EA-66EAE9EC59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8F56-15EE-4E70-B726-A8F4380F6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38A9-E6F6-48DC-AFDF-F4AD50F7DF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3648-C712-46D0-8FC0-CDF0DFA21D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1737-8145-44BB-AE2B-425D42D42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C8D0-73E8-41F3-A8EF-58F0C8916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FFAA-79CD-4FA3-A6D2-9D5595704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132-3BA7-4D70-A18E-112BAA1D8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7582-19E8-42D6-B62E-8DF85590A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AD0B-3B88-4436-B7F3-DE7509DEDA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3378-85CC-4E21-8F6D-66B131A05F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18F9-7CA5-442F-AC22-FFDD720634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385F-9880-4C55-ABB7-1ED5511423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C054-4D44-46B9-BB0C-5F7C4E7783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775D-A7D1-436A-8834-1E4057FFCA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FDC4-4A49-433E-8077-781258F646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369F-478A-4DD8-A0DF-F7E3DA14F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2475-2908-4383-8722-870763426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088E-89E3-4EB5-BABA-96068EBDC7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326F-8396-4716-8F19-957302EE79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BD93-6871-4AE4-B44E-93E8D60FC3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1FA9-2FA5-4F0C-A980-19C5FEC41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763E-D9B5-4456-AFC4-62FEC6CAFF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F78D-EDF2-4EF8-89FA-53729691F9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443D-3F59-41AA-B3B3-F069F59A9D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9456-C1D2-479C-B89D-FB2BF4BCF3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F98-0E42-42F1-BDFF-D30CF31429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14600" y="3176640"/>
            <a:ext cx="59148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60430"/>
          <p:cNvGrpSpPr/>
          <p:nvPr/>
        </p:nvGrpSpPr>
        <p:grpSpPr>
          <a:xfrm>
            <a:off x="338040" y="1125360"/>
            <a:ext cx="8481960" cy="4537080"/>
            <a:chOff x="338040" y="1125360"/>
            <a:chExt cx="8481960" cy="4537080"/>
          </a:xfrm>
        </p:grpSpPr>
        <p:pic>
          <p:nvPicPr>
            <p:cNvPr id="923" name="图片 60428" descr=""/>
            <p:cNvPicPr/>
            <p:nvPr/>
          </p:nvPicPr>
          <p:blipFill>
            <a:blip r:embed="rId1"/>
            <a:stretch/>
          </p:blipFill>
          <p:spPr>
            <a:xfrm>
              <a:off x="338040" y="1195560"/>
              <a:ext cx="8467920" cy="44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1" descr=""/>
            <p:cNvPicPr/>
            <p:nvPr/>
          </p:nvPicPr>
          <p:blipFill>
            <a:blip r:embed="rId2"/>
            <a:stretch/>
          </p:blipFill>
          <p:spPr>
            <a:xfrm>
              <a:off x="7812000" y="1125360"/>
              <a:ext cx="100800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998720" y="25495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564000" y="25369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641920" y="2521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998720" y="3087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3564000" y="3097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5580000" y="3078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1998720" y="3635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332892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564192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1692360" y="47149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3"/>
          <a:stretch/>
        </p:blipFill>
        <p:spPr>
          <a:xfrm>
            <a:off x="3924360" y="4724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4"/>
          <a:stretch/>
        </p:blipFill>
        <p:spPr>
          <a:xfrm>
            <a:off x="6165720" y="4714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5"/>
          <a:stretch/>
        </p:blipFill>
        <p:spPr>
          <a:xfrm>
            <a:off x="8388360" y="4724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6"/>
          <a:stretch/>
        </p:blipFill>
        <p:spPr>
          <a:xfrm>
            <a:off x="1692360" y="5257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7"/>
          <a:stretch/>
        </p:blipFill>
        <p:spPr>
          <a:xfrm>
            <a:off x="3924360" y="5248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8"/>
          <a:stretch/>
        </p:blipFill>
        <p:spPr>
          <a:xfrm>
            <a:off x="6165720" y="5238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9"/>
          <a:stretch/>
        </p:blipFill>
        <p:spPr>
          <a:xfrm>
            <a:off x="8263080" y="524844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9410" descr=""/>
          <p:cNvPicPr/>
          <p:nvPr/>
        </p:nvPicPr>
        <p:blipFill>
          <a:blip r:embed="rId1"/>
          <a:stretch/>
        </p:blipFill>
        <p:spPr>
          <a:xfrm>
            <a:off x="442800" y="2038320"/>
            <a:ext cx="8258400" cy="27813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050920" y="3313080"/>
            <a:ext cx="63374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233280" y="947880"/>
            <a:ext cx="8677440" cy="49622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258920" y="28335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3112920" y="2852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2944800" y="33289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3568680" y="3313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4199040" y="33321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5580000" y="3313080"/>
            <a:ext cx="10796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1744560" y="4356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3841920" y="4330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5940360" y="4311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4788000" y="4724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6084720" y="4753080"/>
            <a:ext cx="100836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7677000" y="4743360"/>
            <a:ext cx="1008360" cy="257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1735200" y="5167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3841920" y="5167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594036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7"/>
          <a:stretch/>
        </p:blipFill>
        <p:spPr>
          <a:xfrm>
            <a:off x="3635280" y="5589720"/>
            <a:ext cx="649440" cy="257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8"/>
          <a:stretch/>
        </p:blipFill>
        <p:spPr>
          <a:xfrm>
            <a:off x="5148360" y="5599080"/>
            <a:ext cx="115236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9"/>
          <a:stretch/>
        </p:blipFill>
        <p:spPr>
          <a:xfrm>
            <a:off x="7308720" y="5599080"/>
            <a:ext cx="1152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0:2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